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0E3-1707-4B35-AA71-3390402A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234-3A3B-442E-8FD6-FB1ECBE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597-8FF0-4952-B253-336ABCA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839-D1F0-4459-A508-51A81341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7E3-2FBD-4290-B0A0-1E3CDE8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BAF-89EC-4F62-B490-9BE74BBE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0ED-A34F-4575-83A1-B02F4E9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E0D-9BAB-471F-9658-982D444C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4C8-B4A3-4630-9FEA-B140A1C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D4C-CD2A-41E7-AA27-39E2312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92F-173A-46E1-B898-1102B20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657-904F-45ED-9DE8-9FF54E8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F0C-2BB5-42FC-811A-39DB3611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1219320"/>
            <a:ext cx="11430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48:04Z</dcterms:created>
  <dc:creator>Jeanette de Richemond</dc:creator>
  <dc:description/>
  <dc:language>en-US</dc:language>
  <cp:lastModifiedBy>Jeanette de Richemond</cp:lastModifiedBy>
  <dcterms:modified xsi:type="dcterms:W3CDTF">2009-11-22T19:49:07Z</dcterms:modified>
  <cp:revision>1</cp:revision>
  <dc:subject/>
  <dc:title>PowerPoint Presentation</dc:title>
</cp:coreProperties>
</file>