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274-CA67-4B5F-B91D-AF536899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7D4-88B0-4ED4-93FB-E11BD81C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2E2-2ED2-47B0-B502-09F22669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7B2-7A13-4E06-9C99-48099DB8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AA7-797C-40C7-B15C-9DE19617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972-1D24-4C43-819D-DE487E05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4D0-66AB-4F66-93B7-F69C7AFE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406-F304-4350-AFD1-6418A7A0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BD5-76DD-4E34-8481-502A9776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4A4-2594-4D49-B442-1D5C0E34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58D-CC23-40BF-82BA-CE34225F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A74-6D89-4215-9882-B20092FE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6151-D2FF-40D4-BEDE-3946DEE08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1219320"/>
            <a:ext cx="1143000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9:48:04Z</dcterms:created>
  <dc:creator>Jeanette de Richemond</dc:creator>
  <dc:description/>
  <dc:language>en-US</dc:language>
  <cp:lastModifiedBy>Jeanette de Richemond</cp:lastModifiedBy>
  <dcterms:modified xsi:type="dcterms:W3CDTF">2009-11-22T19:49:07Z</dcterms:modified>
  <cp:revision>1</cp:revision>
  <dc:subject/>
  <dc:title>PowerPoint Presentation</dc:title>
</cp:coreProperties>
</file>