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AE2-602C-4E3F-A57B-D244CAD4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042-7741-4D3A-AAF4-4A2F7131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B7A-8493-4F55-897C-D8255F00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359-0A5B-4F62-8DC0-21E74CA4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4A9-5FCF-450D-AD4E-C1A1C523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C4C-662A-4CBA-B75F-5DB7209F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CCB-2524-4EEF-9C9D-8BB859DB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63B-0C00-4E3F-856B-8CE6407C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9D3-9EB7-4336-B046-DAF2E259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486-E616-4305-8C8B-60855D86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E6A-7A8C-46B0-97A4-6C5503B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979-648F-423E-946D-49C99CE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1BFB-F8ED-4E22-85AD-4F2BA8954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1219320"/>
            <a:ext cx="11430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9:48:04Z</dcterms:created>
  <dc:creator>Jeanette de Richemond</dc:creator>
  <dc:description/>
  <dc:language>en-US</dc:language>
  <cp:lastModifiedBy>Jeanette de Richemond</cp:lastModifiedBy>
  <dcterms:modified xsi:type="dcterms:W3CDTF">2009-11-22T19:49:07Z</dcterms:modified>
  <cp:revision>1</cp:revision>
  <dc:subject/>
  <dc:title>PowerPoint Presentation</dc:title>
</cp:coreProperties>
</file>