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879-F30F-4822-A7C6-E6979EB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1C5-D62A-42FB-9998-B08C714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5D9-385D-44DD-A892-474DF1F0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429-D1E9-4F30-8D06-32F377C6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35D-3F95-4188-B557-B51F403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286-6FEF-4D01-8B20-6C94F651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AAC-C171-4E03-82C1-83D1D42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BF3-E806-404F-89BC-D5AFBF3C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E12-9415-4662-8AA5-1BE5800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DEC-8ABD-452D-8D49-977D985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BEA-20EC-4049-9D37-927D392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17D-B7FF-4D4D-8014-EC80BD0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645-F0D6-418D-A4B7-23DA9B51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1219320"/>
            <a:ext cx="11430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9:48:04Z</dcterms:created>
  <dc:creator>Jeanette de Richemond</dc:creator>
  <dc:description/>
  <dc:language>en-US</dc:language>
  <cp:lastModifiedBy>Jeanette de Richemond</cp:lastModifiedBy>
  <dcterms:modified xsi:type="dcterms:W3CDTF">2009-11-22T19:49:07Z</dcterms:modified>
  <cp:revision>1</cp:revision>
  <dc:subject/>
  <dc:title>PowerPoint Presentation</dc:title>
</cp:coreProperties>
</file>